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181-DE5A-4228-95EE-0E9B3DC8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A60-D6CE-49E0-A086-46379766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998-8F81-4B05-88BD-39D7787C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90A-1C66-4108-AE19-E37B4052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341-0A55-493E-B2E4-8DE7BBC2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A0B-E2F6-44E7-8360-04E80968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C0D-DDE1-4B2D-8A0F-107D0A4C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506-49A6-4934-86DA-BB12FB68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A47-BD50-4C1D-BAF5-78CA2365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FB2-28FA-4ABB-B96F-A02528B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4D5-CBBA-4233-8E6C-A84FE760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D37-F52B-49E2-81CF-76AC9F1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07E0-C4C4-4F07-AF2E-27EA342B2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609480"/>
            <a:ext cx="7848720" cy="5715000"/>
            <a:chOff x="838080" y="609480"/>
            <a:chExt cx="7848720" cy="5715000"/>
          </a:xfrm>
        </p:grpSpPr>
        <p:pic>
          <p:nvPicPr>
            <p:cNvPr id="42" name="aglioeolio" descr=""/>
            <p:cNvPicPr/>
            <p:nvPr/>
          </p:nvPicPr>
          <p:blipFill>
            <a:blip r:embed="rId1"/>
            <a:stretch/>
          </p:blipFill>
          <p:spPr>
            <a:xfrm>
              <a:off x="838080" y="609480"/>
              <a:ext cx="76201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69" name="mapoleone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72" name="pierodellafranpesca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75" name="ponziopelat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78" name="porrosedut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81" name="rapanellosanzi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84" name="resalamone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87" name="tutanpanem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90" name="vancoc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45" name="aglioween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48" name="alavin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51" name="antonnocleopasta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54" name="avocad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57" name="cristoforocolomba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60" name="cuordimelone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63" name="ficodellamirandola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66" name="johnlemon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9:29:44Z</dcterms:created>
  <dc:creator>37301200</dc:creator>
  <dc:description/>
  <dc:language>en-US</dc:language>
  <cp:lastModifiedBy>GNITTI</cp:lastModifiedBy>
  <dcterms:modified xsi:type="dcterms:W3CDTF">2001-12-11T09:28:15Z</dcterms:modified>
  <cp:revision>2</cp:revision>
  <dc:subject/>
  <dc:title>Nessun titolo diapositiva</dc:title>
</cp:coreProperties>
</file>